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3.jpeg" ContentType="image/jpeg"/>
  <Override PartName="/ppt/media/image1.png" ContentType="image/png"/>
  <Override PartName="/ppt/media/image2.jpeg" ContentType="image/jpeg"/>
  <Override PartName="/ppt/media/image31.png" ContentType="image/png"/>
  <Override PartName="/ppt/media/image24.png" ContentType="image/png"/>
  <Override PartName="/ppt/media/image54.png" ContentType="image/png"/>
  <Override PartName="/ppt/media/image14.jpeg" ContentType="image/jpeg"/>
  <Override PartName="/ppt/media/image46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5.png" ContentType="image/png"/>
  <Override PartName="/ppt/media/image21.jpeg" ContentType="image/jpeg"/>
  <Override PartName="/ppt/media/image22.jpeg" ContentType="image/jpeg"/>
  <Override PartName="/ppt/media/image29.png" ContentType="image/png"/>
  <Override PartName="/ppt/media/image63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6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7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5.jpeg" ContentType="image/jpeg"/>
  <Override PartName="/ppt/media/image3.jpeg" ContentType="image/jpeg"/>
  <Override PartName="/ppt/media/image41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985-9A32-464F-9850-A2E2471F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791-C098-4AD2-88DC-832D9A13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3F4-57EC-4A83-86A2-5B85BE4F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1C5-0EF3-4938-86FD-02AD6B26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A4ED-0738-4D6C-B6EE-D31817F4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8822-1D29-427B-AD66-31285F7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DEAB-2C55-4D55-BFDE-01CC80B1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FFEA-CE0A-4938-9B00-DFB6AD1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1EA0-CD81-40E5-82C7-0A07FE9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7765-891E-4E38-A940-D591A781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CAF6-0060-46CA-ADC3-B8DD9A7F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A80-7DE1-4607-A777-0A41B741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C0CA-6F4F-4291-9352-7E5E35D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871F-6F68-4327-B936-F068331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3C3-4375-491B-B56A-95F08E50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361F-C587-4194-A673-8BF4E3BA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1B0B-3904-4183-84AB-D8D2721E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57CF-6007-4F20-873E-4D16526A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DB85-F59A-43DD-B65C-EBB00DF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AC6B-756B-4F83-9FF9-E9ECD9D0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B8EB-3069-4EF9-8839-6AA726BC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B8BE-077F-46C4-B6E7-7C62F1EB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058-59B1-4D0C-BB1F-3234D765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DF4F-A3FF-4C3D-9F04-40D32563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3FCD-07D1-4A22-AC1E-1CE6B86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40F7-4ED7-4AFC-871B-DF29ADC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A87F-4D31-4286-A3E5-4488BB3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3F70-8EC7-4A7D-B4EC-AC961AC7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3A3A-C8B8-4A8E-881F-C92BB430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C401-2E0E-4B3C-A545-8BEEF515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1E4F-D71E-4135-95B7-7D5DB1DE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5EB7-12B8-4BA5-A3AD-989C3ACF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73AF-53D0-439C-99F4-D1389B68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2BA-F524-4F89-A915-D11A63D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0AB2C-ABAB-4FDA-BBFE-721756D0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DF95-29D8-4C6A-A5FD-5BFF9F4E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3913-E7CC-41DF-82E8-77419416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1F07-C4C4-4310-A0B2-55587E4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D414-F644-41A4-ABFF-A47B434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7BE4-8032-46A1-8A69-FFB2D6B3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4B09-1B64-4EF0-9E60-123EE68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6A0A-370B-463E-A97D-3BDB4832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8135-1F82-4048-B6CF-A23AF1CD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383A-CEA6-48F0-AEBC-BC9CD468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18B-FB1E-4342-8931-4669B5E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C087-342E-4ACD-B094-F8DE8C8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C508-4C3A-4F50-AF7E-C6179E3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15F4-E5D5-4B53-A29C-196D35B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E838-23AD-4F8B-8B20-8BDA0635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1B23-2586-4BD9-84B6-8381D29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FA02-0E01-4636-A235-D0E7EB2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F23B-ADC8-478E-AAD9-2BBF74D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2982F-46DA-43E3-A458-EF3AEF0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6BE1-549D-47C9-A09E-F8F97410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EF39-0D0C-4ED8-99A5-D3FAFFF3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9DF-3097-4E1D-8B32-59FA705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3B45-3CCD-4D93-8728-F259DBDC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B7E-8411-4037-BA8A-6CD80A23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EF8-1802-4F8E-8727-13511A59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480-A224-40AE-8A47-B06C862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162-330A-4688-9493-A9C02AFD6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9B56-6F54-466C-970C-0101B7DB5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E1E5-0F9D-42F5-A403-69728A98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D09-1A7B-49D9-82B3-0171023333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AC5B-8498-4FD5-A7DB-7043181BBA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gio.net/kazakhstan/american-fla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en.wikipedia.org/wiki/Image:Berlin_Blockade_Milk.jpg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lag_of_NATO.svg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en.wikipedia.org/wiki/Image:Flag_of_NATO.svg" TargetMode="Externa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d/Flag_of_the_Chinese_Communist_Party.svg" TargetMode="External"/><Relationship Id="rId2" Type="http://schemas.openxmlformats.org/officeDocument/2006/relationships/image" Target="../media/image33.png"/><Relationship Id="rId3" Type="http://schemas.openxmlformats.org/officeDocument/2006/relationships/hyperlink" Target="http://upload.wikimedia.org/wikipedia/commons/6/66/Naval_Jack_of_the_Republic_of_China.svg" TargetMode="External"/><Relationship Id="rId4" Type="http://schemas.openxmlformats.org/officeDocument/2006/relationships/image" Target="../media/image34.png"/><Relationship Id="rId5" Type="http://schemas.openxmlformats.org/officeDocument/2006/relationships/hyperlink" Target="http://en.wikipedia.org/wiki/Image:Mao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en.wikipedia.org/wiki/Image:Chiang_Kai-shek.jpg" TargetMode="External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ulnoll.com/Locations/visiting-Taiwan-flag.gif&amp;imgrefurl=http://www.paulnoll.com/Locations/visiting-Taiwan.html&amp;h=220&amp;w=330&amp;sz=2&amp;tbnid=PsG7B1k3jH4J:&amp;tbnh=76&amp;tbnw=114&amp;start=1&amp;prev=/images%3Fq%3DTaiwan%2BFlag%26hl%3Den%26lr%3D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s.google.com/imgres?imgurl=http://www.paulnoll.com/Locations/visiting-Taiwan-flag.gif&amp;imgrefurl=http://www.paulnoll.com/Locations/visiting-Taiwan.html&amp;h=220&amp;w=330&amp;sz=2&amp;tbnid=PsG7B1k3jH4J:&amp;tbnh=76&amp;tbnw=114&amp;start=1&amp;prev=/images%3Fq%3DTaiwan%2BFlag%26hl%3Den%26lr%3D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itake.se/superpowercoldwarbutton.png&amp;imgrefurl=http://www.itake.se/&amp;h=300&amp;w=300&amp;sz=344&amp;hl=en&amp;start=7&amp;sig2=KVgXFoRqQ9Kmt43zWqznXw&amp;um=1&amp;tbnid=lQeWAn_I3Cyh4M:&amp;tbnh=116&amp;tbnw=116&amp;ei=6QOdR4HnFqD6efy_jM4G&amp;prev=/images%3Fq%3DSuperPower%2BUS%2BUSSR%26svnum%3D10%26um%3D1%26hl%3Den%26rlz%3D1G1GGLQ_ENUS240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mericanrhetoric.com/speeches/winstonchurchillsinewsofpeace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m/imgres?imgurl=http://www.wpclipart.com/signs_symbol/safety_signs/warning_sign.png&amp;imgrefurl=http://www.wpclipart.com/signs_symbol/safety_signs/&amp;h=753&amp;w=1171&amp;sz=26&amp;hl=en&amp;start=11&amp;sig2=zmZe9Lp8KiT03S1VTiL_iQ&amp;um=1&amp;tbnid=ZOmAicQNlOS1iM:&amp;tbnh=96&amp;tbnw=150&amp;ei=kcycR632OKPgeNOR8c0G&amp;prev=/images%3Fq%3Dwarning%2Bsigns%26svnum%3D10%26um%3D1%26hl%3Den%26rlz%3D1G1GGLQ_ENUS240%26sa%3DX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0CEF-24EE-4DF5-849A-382CBAF73E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685800" y="4952880"/>
            <a:ext cx="7772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rigins to 1960</a:t>
            </a:r>
            <a:endParaRPr b="1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1066680" y="228600"/>
            <a:ext cx="677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old War: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2" name="Picture 8" descr="americ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590920"/>
            <a:ext cx="2743200" cy="173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20050705205500_che-guevara-soviet-union-flag-posterflag-4001883%5B1%5D"/>
          <p:cNvPicPr/>
          <p:nvPr/>
        </p:nvPicPr>
        <p:blipFill>
          <a:blip r:embed="rId3"/>
          <a:stretch/>
        </p:blipFill>
        <p:spPr>
          <a:xfrm>
            <a:off x="6248520" y="2514600"/>
            <a:ext cx="2666880" cy="1847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nagasaki_bomb"/>
          <p:cNvPicPr/>
          <p:nvPr/>
        </p:nvPicPr>
        <p:blipFill>
          <a:blip r:embed="rId4"/>
          <a:stretch/>
        </p:blipFill>
        <p:spPr>
          <a:xfrm>
            <a:off x="3505320" y="1752480"/>
            <a:ext cx="2284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E7C-1F86-4364-B4E0-B020B693C2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Division of Germany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7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llies decided to divide Germany into 4 zones after th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so, the capital of Berlin was divided into 4 se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E next  2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germanyzone"/>
          <p:cNvPicPr/>
          <p:nvPr/>
        </p:nvPicPr>
        <p:blipFill>
          <a:blip r:embed="rId1"/>
          <a:stretch/>
        </p:blipFill>
        <p:spPr>
          <a:xfrm>
            <a:off x="5029200" y="1752480"/>
            <a:ext cx="3573360" cy="434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9676-88BE-43F4-B1D8-CC41F094E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8B78-2D56-4D7C-A4D3-E160D15167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8EF-5295-4317-AA5E-ACA16479FF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Problem with Berlin?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rlin was in the Soviet S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lin was not happy with a “small piece” of democracy in Ea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did he do?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lift 2"/>
          <p:cNvPicPr/>
          <p:nvPr/>
        </p:nvPicPr>
        <p:blipFill>
          <a:blip r:embed="rId2"/>
          <a:stretch/>
        </p:blipFill>
        <p:spPr>
          <a:xfrm>
            <a:off x="4876920" y="1447920"/>
            <a:ext cx="3933720" cy="464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3EDD-3CE8-4E6D-B86C-36D9DDC0B1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Blockade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9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ne 1948, Stalin attempts to starve West Berliners into sub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rail and street access was block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cossack_road_block_dubasari"/>
          <p:cNvPicPr/>
          <p:nvPr/>
        </p:nvPicPr>
        <p:blipFill>
          <a:blip r:embed="rId1"/>
          <a:stretch/>
        </p:blipFill>
        <p:spPr>
          <a:xfrm>
            <a:off x="2057400" y="3352680"/>
            <a:ext cx="5181480" cy="2963880"/>
          </a:xfrm>
          <a:prstGeom prst="rect">
            <a:avLst/>
          </a:prstGeom>
          <a:ln w="63360">
            <a:solidFill>
              <a:srgbClr val="330066"/>
            </a:solidFill>
            <a:miter/>
          </a:ln>
        </p:spPr>
      </p:pic>
      <p:pic>
        <p:nvPicPr>
          <p:cNvPr id="391" name="Picture 10" descr="soviet_old_soviet_union_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708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soviet_old_soviet_union_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228600"/>
            <a:ext cx="1066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2AC-0FEF-4DD2-8212-72C1E1BE3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Airlif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erican and British planes flew food and supplies into Berlin for 327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alin lifted the Blockade by May 194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5" descr="lift 1"/>
          <p:cNvPicPr/>
          <p:nvPr/>
        </p:nvPicPr>
        <p:blipFill>
          <a:blip r:embed="rId1"/>
          <a:stretch/>
        </p:blipFill>
        <p:spPr>
          <a:xfrm>
            <a:off x="4952880" y="1752480"/>
            <a:ext cx="3832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40C-552A-4512-8064-40D60E4915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2" descr="Berlin-Airliftchildren"/>
          <p:cNvPicPr/>
          <p:nvPr/>
        </p:nvPicPr>
        <p:blipFill>
          <a:blip r:embed="rId1"/>
          <a:stretch/>
        </p:blipFill>
        <p:spPr>
          <a:xfrm>
            <a:off x="0" y="0"/>
            <a:ext cx="4191120" cy="361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9" name="Picture 3" descr="C-47s unloading at Tempelhof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1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00" name="Picture 4" descr="luftbruecke%20copy"/>
          <p:cNvPicPr/>
          <p:nvPr/>
        </p:nvPicPr>
        <p:blipFill>
          <a:blip r:embed="rId3"/>
          <a:stretch/>
        </p:blipFill>
        <p:spPr>
          <a:xfrm>
            <a:off x="0" y="3683160"/>
            <a:ext cx="5105520" cy="317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01" name="Picture 5" descr="Loading milk on a West Berlin-bound plan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352680"/>
            <a:ext cx="2781360" cy="350532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BEBF-168E-4BDD-BE3E-8034C7B862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N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orth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A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tlantic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T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eaty </a:t>
            </a:r>
            <a:br>
              <a:rPr sz="4000"/>
            </a:b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O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ganiz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O was established by a treaty in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organization established a system of collective defense whereby its member states agree to mutual defense in response to an attack by any external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nited States, the United Kingdom, Canada, France, Denmark, Iceland, Italy, Norway, Portugal, Belgium, Netherlands, and Luxembourg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reece (1952), West Germany (1955) join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Flag of NA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990720" cy="742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" descr="Flag of NA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78120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3840-BA11-476D-A60F-D76C78F45F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Warsaw Pac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st Response to 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gned on May 1, 1955 in 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treaty, which bound its signatories to come to the aid of the others, should any one of them be the victim of foreign agg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bania, Bulgaria, Hungary, East Germany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,  Poland, Rumania, the USSR, and the Czechoslovak Re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communism-57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1000" y="30492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communism-57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049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D68-7289-4F8A-B8FE-B3CE942EA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27DD-DB51-4F6C-BAD0-3421C0B29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2" descr="http://lh4.ggpht.com/_AauCarFOO_Y/TRDg5xE4mRI/AAAAAAAACIk/3i6B1t-CDJw/LO-Sent-Is%20This%20Tomorrow_thumb%5B1%5D.jpg?imgmax=800"/>
          <p:cNvPicPr/>
          <p:nvPr/>
        </p:nvPicPr>
        <p:blipFill>
          <a:blip r:embed="rId1"/>
          <a:stretch/>
        </p:blipFill>
        <p:spPr>
          <a:xfrm>
            <a:off x="1676520" y="380880"/>
            <a:ext cx="6583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158-B5EF-4F52-AD20-D720E5651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7" descr="asia-map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6156360"/>
            <a:ext cx="5105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old War in As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5107-E6A9-474F-80A6-7BA963B1CB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0066"/>
                </a:solidFill>
                <a:latin typeface="Copperplate Gothic Light"/>
              </a:rPr>
              <a:t>Struggle for China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o Zedong wanted China to become a communist state after WW I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191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 Kai Shek fought to stop the communists but was un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Image:Flag of the Chinese Communist Part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Image:Naval Jack of the Republic of Chin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7" descr="Mao Zedo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3505320"/>
            <a:ext cx="2233440" cy="297180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  <p:pic>
        <p:nvPicPr>
          <p:cNvPr id="429" name="Picture 19" descr="Chiang Kai-she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3581280"/>
            <a:ext cx="21574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E73-B865-4C62-B008-B0F14A369D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66"/>
                </a:solidFill>
                <a:latin typeface="Copperplate Gothic Light"/>
              </a:rPr>
              <a:t>T</a:t>
            </a: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aiwan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iang Kai-shek, retreated from Mainland China and moved his government from Nanjing to Taipei, Taiwan's largest c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aiwan made a claim they were separate from Chi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ill a problem area tod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visiting-Taiw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visiting-Taiwan-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taiwan"/>
          <p:cNvPicPr/>
          <p:nvPr/>
        </p:nvPicPr>
        <p:blipFill>
          <a:blip r:embed="rId5"/>
          <a:stretch/>
        </p:blipFill>
        <p:spPr>
          <a:xfrm>
            <a:off x="4800600" y="1600200"/>
            <a:ext cx="383364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6" name="TextBox 8"/>
          <p:cNvSpPr/>
          <p:nvPr/>
        </p:nvSpPr>
        <p:spPr>
          <a:xfrm>
            <a:off x="54000" y="5257800"/>
            <a:ext cx="445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id we do when w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zed China was lo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sures to Maintain American Military 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itary levels remained hi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8 revived Selective Service 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ic Energy Com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Security 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-Dept of defense (army/navy), NS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C-68 Report (1950)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must take initiative (expansion of Kennan’s containment poli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90D3-C46F-49ED-B959-14B365D5F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D362-E648-42A2-939B-741EF0073C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Picture 2" descr="http://farm5.staticflickr.com/4094/5393776341_5970c1b29b_z.jpg"/>
          <p:cNvPicPr/>
          <p:nvPr/>
        </p:nvPicPr>
        <p:blipFill>
          <a:blip r:embed="rId1"/>
          <a:stretch/>
        </p:blipFill>
        <p:spPr>
          <a:xfrm>
            <a:off x="1523880" y="104760"/>
            <a:ext cx="65534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gman Rh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map-Korean War"/>
          <p:cNvPicPr/>
          <p:nvPr/>
        </p:nvPicPr>
        <p:blipFill>
          <a:blip r:embed="rId1"/>
          <a:stretch/>
        </p:blipFill>
        <p:spPr>
          <a:xfrm>
            <a:off x="380880" y="0"/>
            <a:ext cx="4116600" cy="6629400"/>
          </a:xfrm>
          <a:prstGeom prst="rect">
            <a:avLst/>
          </a:prstGeom>
          <a:ln w="9360">
            <a:solidFill>
              <a:srgbClr val="ffc729"/>
            </a:solidFill>
            <a:miter/>
          </a:ln>
        </p:spPr>
      </p:pic>
      <p:sp>
        <p:nvSpPr>
          <p:cNvPr id="445" name="TextBox 7"/>
          <p:cNvSpPr/>
          <p:nvPr/>
        </p:nvSpPr>
        <p:spPr>
          <a:xfrm>
            <a:off x="4583520" y="2209680"/>
            <a:ext cx="439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50-195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13" descr="Kim"/>
          <p:cNvPicPr/>
          <p:nvPr/>
        </p:nvPicPr>
        <p:blipFill>
          <a:blip r:embed="rId2"/>
          <a:stretch/>
        </p:blipFill>
        <p:spPr>
          <a:xfrm>
            <a:off x="4648320" y="3657600"/>
            <a:ext cx="1782720" cy="2438280"/>
          </a:xfrm>
          <a:prstGeom prst="rect">
            <a:avLst/>
          </a:prstGeom>
          <a:ln w="9360">
            <a:solidFill>
              <a:srgbClr val="330066"/>
            </a:solidFill>
            <a:miter/>
          </a:ln>
        </p:spPr>
      </p:pic>
      <p:pic>
        <p:nvPicPr>
          <p:cNvPr id="447" name="Picture 11" descr="syng280"/>
          <p:cNvPicPr/>
          <p:nvPr/>
        </p:nvPicPr>
        <p:blipFill>
          <a:blip r:embed="rId3"/>
          <a:srcRect l="5400" t="0" r="10813" b="0"/>
          <a:stretch/>
        </p:blipFill>
        <p:spPr>
          <a:xfrm>
            <a:off x="6781680" y="3733920"/>
            <a:ext cx="1914480" cy="1958760"/>
          </a:xfrm>
          <a:prstGeom prst="rect">
            <a:avLst/>
          </a:prstGeom>
          <a:ln w="9360">
            <a:solidFill>
              <a:srgbClr val="330066"/>
            </a:solidFill>
            <a:miter/>
          </a:ln>
        </p:spPr>
      </p:pic>
      <p:sp>
        <p:nvSpPr>
          <p:cNvPr id="448" name="TextBox 10"/>
          <p:cNvSpPr/>
          <p:nvPr/>
        </p:nvSpPr>
        <p:spPr>
          <a:xfrm>
            <a:off x="4724280" y="621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im Il S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Korean War (1950-195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Visions of stable,unified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ther side left –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7,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agreed to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SR boycotting Security council so no veto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Douglas McArth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mobilization for war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 thwarted a recession/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s of Communism rein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gave permission to MacArthur to push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entered war and UN offensive 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wanted to avoid world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-MacArthur Controversy –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cArthur fired for criticizing Truman’s decision not to attack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AE86-079B-4451-A4B4-90DA38E21A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EA2-AEDF-4057-9C57-C08812406F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old War in America </a:t>
            </a:r>
            <a:r>
              <a:rPr b="0" lang="en-US" sz="3700" spc="-1" strike="noStrike">
                <a:solidFill>
                  <a:srgbClr val="ff0000"/>
                </a:solidFill>
                <a:latin typeface="Copperplate Gothic Light"/>
              </a:rPr>
              <a:t>(1945-1960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re reason to be concerned?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950’s Red S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viet domination of 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hina turned Communist – 1 billion peop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0,000 Americans members of Communist pa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2" descr="410Q032Q0HL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AC1B-E80F-4A18-A960-7C3E90D9AF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Loyalty Review Board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up by President Truman in March 194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po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vestigate Federal government employees and dismiss those disloyal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12 dismi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50 – McCarran Internal Security Act passed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munist orgs must register and make public their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hiss"/>
          <p:cNvPicPr/>
          <p:nvPr/>
        </p:nvPicPr>
        <p:blipFill>
          <a:blip r:embed="rId2"/>
          <a:stretch/>
        </p:blipFill>
        <p:spPr>
          <a:xfrm>
            <a:off x="4924440" y="1719360"/>
            <a:ext cx="34876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417-0CA1-4FD0-8127-CD962BE8AF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66"/>
                </a:solidFill>
                <a:latin typeface="Copperplate Gothic Light"/>
              </a:rPr>
              <a:t>House on Un-American Activities Committee (HUAC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9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e Communist influence in the movi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lywood Ten – Black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er Hiss Perjury trial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ed under oath and was a communist spy – convicted by R. Ni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h5A"/>
          <p:cNvPicPr/>
          <p:nvPr/>
        </p:nvPicPr>
        <p:blipFill>
          <a:blip r:embed="rId2"/>
          <a:stretch/>
        </p:blipFill>
        <p:spPr>
          <a:xfrm>
            <a:off x="5257800" y="1676520"/>
            <a:ext cx="3478320" cy="441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4A2-DCF0-4340-8A4A-84F13122BF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330066"/>
                </a:solidFill>
                <a:uFillTx/>
                <a:latin typeface="Copperplate Gothic Light"/>
              </a:rPr>
              <a:t>Background: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fter WW II, the US and USSR emerged as rival superp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ach nation was strong enough to greatly influence world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s1936a"/>
          <p:cNvPicPr/>
          <p:nvPr/>
        </p:nvPicPr>
        <p:blipFill>
          <a:blip r:embed="rId1"/>
          <a:stretch/>
        </p:blipFill>
        <p:spPr>
          <a:xfrm>
            <a:off x="4495680" y="3809880"/>
            <a:ext cx="195444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1" name="Picture 7" descr="krushchev"/>
          <p:cNvPicPr/>
          <p:nvPr/>
        </p:nvPicPr>
        <p:blipFill>
          <a:blip r:embed="rId2"/>
          <a:stretch/>
        </p:blipFill>
        <p:spPr>
          <a:xfrm>
            <a:off x="6553080" y="3886200"/>
            <a:ext cx="2590920" cy="19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2" name="Picture 9" descr="harry-truman-picture"/>
          <p:cNvPicPr/>
          <p:nvPr/>
        </p:nvPicPr>
        <p:blipFill>
          <a:blip r:embed="rId3"/>
          <a:stretch/>
        </p:blipFill>
        <p:spPr>
          <a:xfrm>
            <a:off x="0" y="3886200"/>
            <a:ext cx="2097000" cy="2152800"/>
          </a:xfrm>
          <a:prstGeom prst="rect">
            <a:avLst/>
          </a:prstGeom>
          <a:ln w="28440">
            <a:solidFill>
              <a:srgbClr val="330066"/>
            </a:solidFill>
            <a:miter/>
          </a:ln>
        </p:spPr>
      </p:pic>
      <p:pic>
        <p:nvPicPr>
          <p:cNvPr id="353" name="Picture 11" descr="USA-E-Supreme-pF"/>
          <p:cNvPicPr/>
          <p:nvPr/>
        </p:nvPicPr>
        <p:blipFill>
          <a:blip r:embed="rId4"/>
          <a:stretch/>
        </p:blipFill>
        <p:spPr>
          <a:xfrm>
            <a:off x="2179800" y="3809880"/>
            <a:ext cx="213660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4" name="Picture 13" descr="superpowercoldwarbutt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8FD6-BC73-4266-AF6C-D14F544641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0066"/>
                </a:solidFill>
                <a:latin typeface="Copperplate Gothic Light"/>
              </a:rPr>
              <a:t>The Rosenberg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erican Communists who were found guilty of conspiracy to commit espionage in relation to passing information on the American nuclear bomb to the Soviet Unio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couple were executed at sundown in the electric chair at Sing Sing Correctional Facility in Ossining, New York, on June 19, 1953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9" descr="rosenbergs"/>
          <p:cNvPicPr/>
          <p:nvPr/>
        </p:nvPicPr>
        <p:blipFill>
          <a:blip r:embed="rId1"/>
          <a:stretch/>
        </p:blipFill>
        <p:spPr>
          <a:xfrm>
            <a:off x="5715000" y="914400"/>
            <a:ext cx="31449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0" name="Picture 10" descr="rosen jail"/>
          <p:cNvPicPr/>
          <p:nvPr/>
        </p:nvPicPr>
        <p:blipFill>
          <a:blip r:embed="rId2"/>
          <a:stretch/>
        </p:blipFill>
        <p:spPr>
          <a:xfrm>
            <a:off x="5029200" y="3809880"/>
            <a:ext cx="3048120" cy="277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F660-E741-4338-81B6-394E0BDD0F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McCarthyism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11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or Joe McCarthy became the most famous anti-Communist activ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issue to help win re-election in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ne unsupported accusation afte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uld bully wit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cCarthyism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ctics used to advance your car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9" descr="McCarthy"/>
          <p:cNvPicPr/>
          <p:nvPr/>
        </p:nvPicPr>
        <p:blipFill>
          <a:blip r:embed="rId1"/>
          <a:stretch/>
        </p:blipFill>
        <p:spPr>
          <a:xfrm>
            <a:off x="4756320" y="2021040"/>
            <a:ext cx="382248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B35D-2EB4-4BD7-BCE3-223373CE9C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pperplate Gothic Light"/>
              </a:rPr>
              <a:t>McCarthy’s Downfa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815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first, no one, not even President Eisenhower challenged h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 1954 McCarthy made accusations against the US Ar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to televised Senate investigation; and American people did not like McCarthy’s tactics. 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His popularity dropped greatl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Welch-McCarthy"/>
          <p:cNvPicPr/>
          <p:nvPr/>
        </p:nvPicPr>
        <p:blipFill>
          <a:blip r:embed="rId2"/>
          <a:stretch/>
        </p:blipFill>
        <p:spPr>
          <a:xfrm>
            <a:off x="685800" y="3833640"/>
            <a:ext cx="7467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948 Election – Greatest Up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2C4-5907-41F2-97F4-BEB6DCDE1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Picture 2" descr="File:Harry-truman.jpg"/>
          <p:cNvPicPr/>
          <p:nvPr/>
        </p:nvPicPr>
        <p:blipFill>
          <a:blip r:embed="rId2"/>
          <a:stretch/>
        </p:blipFill>
        <p:spPr>
          <a:xfrm>
            <a:off x="457200" y="1371600"/>
            <a:ext cx="1752480" cy="22384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File:ThomasDewey.png"/>
          <p:cNvPicPr/>
          <p:nvPr/>
        </p:nvPicPr>
        <p:blipFill>
          <a:blip r:embed="rId3"/>
          <a:stretch/>
        </p:blipFill>
        <p:spPr>
          <a:xfrm>
            <a:off x="2362320" y="3962520"/>
            <a:ext cx="1711080" cy="2198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File:StromThurmond.png"/>
          <p:cNvPicPr/>
          <p:nvPr/>
        </p:nvPicPr>
        <p:blipFill>
          <a:blip r:embed="rId4"/>
          <a:stretch/>
        </p:blipFill>
        <p:spPr>
          <a:xfrm>
            <a:off x="457200" y="388620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ElectoralCollege1948.svg"/>
          <p:cNvPicPr/>
          <p:nvPr/>
        </p:nvPicPr>
        <p:blipFill>
          <a:blip r:embed="rId5"/>
          <a:stretch/>
        </p:blipFill>
        <p:spPr>
          <a:xfrm>
            <a:off x="2544840" y="1066680"/>
            <a:ext cx="6599160" cy="383868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0"/>
          <p:cNvSpPr/>
          <p:nvPr/>
        </p:nvSpPr>
        <p:spPr>
          <a:xfrm>
            <a:off x="124200" y="60199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trom Thur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11"/>
          <p:cNvSpPr/>
          <p:nvPr/>
        </p:nvSpPr>
        <p:spPr>
          <a:xfrm>
            <a:off x="557280" y="3276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Harry Tru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12"/>
          <p:cNvSpPr/>
          <p:nvPr/>
        </p:nvSpPr>
        <p:spPr>
          <a:xfrm>
            <a:off x="2405520" y="60199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George Dew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5159160" y="4419720"/>
            <a:ext cx="3178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uthern Democrats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atholics, Jews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nd Surprising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id-western and wes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far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876D-0386-4241-A5E2-708214769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2" descr="http://www.theipinionsjournal.com/wp-content/uploads/2012/06/obamadewey.jpg"/>
          <p:cNvPicPr/>
          <p:nvPr/>
        </p:nvPicPr>
        <p:blipFill>
          <a:blip r:embed="rId1"/>
          <a:stretch/>
        </p:blipFill>
        <p:spPr>
          <a:xfrm>
            <a:off x="228600" y="380880"/>
            <a:ext cx="8591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uman’s Domestic Poli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boom due to people’s increase in savings – no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an’s Fair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d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Housing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gregated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 discrim in hiring f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line on commu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2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47960" y="1676520"/>
            <a:ext cx="40417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flooded markets led to gre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 un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fo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Conservatism – 1946 Congression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ft Hartley Act – Ex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ldn’t get national health insurance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ldn’t get more civil rights legis, polling tax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F7F-2F0E-4347-866C-7938D01015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43BD-F542-4C5A-ACC3-3C2A92FC2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hange in Lead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ly 1950s saw a change in leaders in both the US and US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US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= Dwight Eisenhower wins the election of 19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P – Richard Nix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cker’s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SS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Nikita Khruschev takes over when Stalin dies in 19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dwight-eisenhower-picture"/>
          <p:cNvPicPr/>
          <p:nvPr/>
        </p:nvPicPr>
        <p:blipFill>
          <a:blip r:embed="rId1"/>
          <a:stretch/>
        </p:blipFill>
        <p:spPr>
          <a:xfrm>
            <a:off x="4876920" y="1676520"/>
            <a:ext cx="226224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1" name="Picture 9" descr="Nikita%20Krushchev"/>
          <p:cNvPicPr/>
          <p:nvPr/>
        </p:nvPicPr>
        <p:blipFill>
          <a:blip r:embed="rId2"/>
          <a:stretch/>
        </p:blipFill>
        <p:spPr>
          <a:xfrm>
            <a:off x="6477120" y="3505320"/>
            <a:ext cx="2419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BC47-CCA6-44B5-B9D4-C6B8E87AB8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Hydrogen Bomb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exploded the 1st H-bomb on November 1, 1952 in South Pacif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t bomb completely destroyed one island and left a crater 175 feet dee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ussians exploded on in August of 195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atoll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A47-4E14-4E48-9C0F-38B659CE79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6" descr="H-bom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4A4E-99A2-4914-B7DF-992637717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Brinkmanship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ssive Reta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as willingness to push nation 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brink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nuclear war to keep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advocated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ohn Foster Dulles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y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whos-dulles"/>
          <p:cNvPicPr/>
          <p:nvPr/>
        </p:nvPicPr>
        <p:blipFill>
          <a:blip r:embed="rId1"/>
          <a:stretch/>
        </p:blipFill>
        <p:spPr>
          <a:xfrm>
            <a:off x="5181480" y="1676520"/>
            <a:ext cx="356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 Conferences – Effects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antic  Charter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ablanca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heran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lta Conference (Feb.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sdam Conference (April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24DC-576E-4B1D-9487-BCC4D2AD5E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E75-51FC-42C2-BAD3-6D73A69EDE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Space Rac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8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October 4, 1957 the Soviet Union successfully launched Sputnik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ld's first artificial satellite was about the size of a beach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ed the earth in 98 minu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200px-Sputnik_asm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5622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36576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ace to control space was 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1F2-0598-4D8F-80DB-5A651E8B08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U-2 Inciden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96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U-2 was designed to be high altitude reconnaissanc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IA used these to spy on USSR and one was shot down on May 1, 196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0" descr="300px-Usaf"/>
          <p:cNvPicPr/>
          <p:nvPr/>
        </p:nvPicPr>
        <p:blipFill>
          <a:blip r:embed="rId1"/>
          <a:stretch/>
        </p:blipFill>
        <p:spPr>
          <a:xfrm>
            <a:off x="1981080" y="3429000"/>
            <a:ext cx="5181840" cy="31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A7A-4FA3-4C8E-ACC4-5C1638F15B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Francis Gary Pow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ruited by CIA to fly spy mi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ot down  in U2 over USSR and convicted of espion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changed for a KGB colonel the US had captu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Francis Gary Powers"/>
          <p:cNvPicPr/>
          <p:nvPr/>
        </p:nvPicPr>
        <p:blipFill>
          <a:blip r:embed="rId1"/>
          <a:stretch/>
        </p:blipFill>
        <p:spPr>
          <a:xfrm>
            <a:off x="5029200" y="1752480"/>
            <a:ext cx="382896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157-3128-43E3-BC29-EFDB8B1BAD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Conclusion…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Crisis in the Middle East in the 19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z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into the 1960’s, the Cold War was really starting to heat up with no end in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d War will continue in the 1960s with the world moving closer to an open conflict between the US and US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9" descr="Fidel%20Castro1"/>
          <p:cNvPicPr/>
          <p:nvPr/>
        </p:nvPicPr>
        <p:blipFill>
          <a:blip r:embed="rId1"/>
          <a:stretch/>
        </p:blipFill>
        <p:spPr>
          <a:xfrm>
            <a:off x="5410080" y="1676520"/>
            <a:ext cx="3124440" cy="2376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jfk"/>
          <p:cNvPicPr/>
          <p:nvPr/>
        </p:nvPicPr>
        <p:blipFill>
          <a:blip r:embed="rId2"/>
          <a:stretch/>
        </p:blipFill>
        <p:spPr>
          <a:xfrm>
            <a:off x="5105520" y="4114800"/>
            <a:ext cx="29718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FE02-59CA-4C5E-A00E-A459163306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Potsdam Conference</a:t>
            </a:r>
            <a:br>
              <a:rPr sz="4500"/>
            </a:b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July 1945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3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inal wartime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Big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ngland = Att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A = Tru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SR = Stal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talin promised to allow free elections in Eastern Europe – yet never happened (set up satellite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Potsdam 1"/>
          <p:cNvPicPr/>
          <p:nvPr/>
        </p:nvPicPr>
        <p:blipFill>
          <a:blip r:embed="rId1"/>
          <a:stretch/>
        </p:blipFill>
        <p:spPr>
          <a:xfrm>
            <a:off x="4419720" y="1828800"/>
            <a:ext cx="4572000" cy="373680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7D5B-A5E2-4DFE-8AF7-6B8F05BDAE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ontainment Policy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668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Kennan, career Foreign Service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ed the policy of “containment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 would not get rid of communism, but would not allow it to sp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 would “contain” communism where is already existe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tical of the sweeping view Us took regarding containment – only focus efforts on nations of direct strategic importance to us (Europe/Jap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man Doctrin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reece &amp; Tur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shal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Kennan"/>
          <p:cNvPicPr/>
          <p:nvPr/>
        </p:nvPicPr>
        <p:blipFill>
          <a:blip r:embed="rId1"/>
          <a:stretch/>
        </p:blipFill>
        <p:spPr>
          <a:xfrm>
            <a:off x="5486400" y="1752480"/>
            <a:ext cx="327024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DF35-702A-49AA-8086-33E95592D8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Iron Curtain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ston Churchill coined this te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mous speech on March 5, 1946 at Westminster College, in Fulton, Missou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LICK for text and video of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8" descr="300px-Winston_Churchill"/>
          <p:cNvPicPr/>
          <p:nvPr/>
        </p:nvPicPr>
        <p:blipFill>
          <a:blip r:embed="rId2"/>
          <a:stretch/>
        </p:blipFill>
        <p:spPr>
          <a:xfrm>
            <a:off x="5257800" y="1828800"/>
            <a:ext cx="3525840" cy="426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504-6752-4D6A-A354-59228255DE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2CF7-34C1-4A53-9E23-A9C341CF6C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hurchill’s Warning…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urchill felt that behind the Iron Curtain, the USSR was planning to attack and conquer We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2" descr="ILW1059"/>
          <p:cNvPicPr/>
          <p:nvPr/>
        </p:nvPicPr>
        <p:blipFill>
          <a:blip r:embed="rId1"/>
          <a:stretch/>
        </p:blipFill>
        <p:spPr>
          <a:xfrm>
            <a:off x="4724280" y="1752480"/>
            <a:ext cx="389736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75" name="Picture 14" descr="warning_sig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724280"/>
            <a:ext cx="2743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0:49:02Z</dcterms:created>
  <dc:creator>Daniel J. Greenberg</dc:creator>
  <dc:description/>
  <dc:language>en-US</dc:language>
  <cp:lastModifiedBy>Danielle</cp:lastModifiedBy>
  <dcterms:modified xsi:type="dcterms:W3CDTF">2013-04-05T10:50:40Z</dcterms:modified>
  <cp:revision>120</cp:revision>
  <dc:subject/>
  <dc:title>Slide 1</dc:title>
</cp:coreProperties>
</file>